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B91-257A-4E56-8AF2-32DA289F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B87-8FA3-44C0-B70E-14D4130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6E3-AE7C-4759-8A9D-B47442AE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C9E-1AF3-4BB6-88F6-DB929487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204-3756-4FA2-9AD9-7D4EC97B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0E16-7425-495E-9C9D-07F6529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7684-C133-4B47-ABF1-5562C1D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E2E-ADB9-45A2-BEA7-5340843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A8B-1B15-4C92-AEA2-241B621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EE8-2B9E-48AB-9559-EC2E9DDD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0A18-66A0-4C9A-87F3-5568665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161-EB70-4F71-9FC5-98AA7C93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9D8-F0C6-4BF3-ACEB-E47B37B0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6790-1574-4FCB-B8BF-6324192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A2C3-1182-451A-AA4A-C7F2177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B943-13C8-4E9F-ACF7-15526DDC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16CB-136D-4513-861F-4218A2B9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717-40D6-440B-BDB2-20E67EE0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784-19EA-461A-B613-9E294AD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169-E1C7-4670-9309-6DBBDD2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B20-36FC-46E3-8B11-557C5353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C0F-CA0B-46F5-85FF-280153C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31F-D043-4CC8-9FF9-26E2CAC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2B9-7AD0-4465-873A-BEEF524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482-BFF5-4A89-9ED4-214C37CF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79D-B4A9-43A5-9EA3-777C2EC6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212-BB7F-4451-AC95-066CF3D8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66680" y="227016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egment Formu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5EC-5689-4BE1-AB1C-29D35BAD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Chords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6095880" y="3809880"/>
            <a:ext cx="2819520" cy="2514240"/>
            <a:chOff x="6095880" y="3809880"/>
            <a:chExt cx="2819520" cy="2514240"/>
          </a:xfrm>
        </p:grpSpPr>
        <p:grpSp>
          <p:nvGrpSpPr>
            <p:cNvPr id="98" name="Group 14"/>
            <p:cNvGrpSpPr/>
            <p:nvPr/>
          </p:nvGrpSpPr>
          <p:grpSpPr>
            <a:xfrm>
              <a:off x="6095880" y="3809880"/>
              <a:ext cx="2819520" cy="2514240"/>
              <a:chOff x="6095880" y="3809880"/>
              <a:chExt cx="2819520" cy="251424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6248520" y="3971880"/>
                <a:ext cx="2286000" cy="2352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6705720" y="4215240"/>
                <a:ext cx="1828800" cy="121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 flipH="1">
                <a:off x="6477120" y="4458600"/>
                <a:ext cx="1828800" cy="145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64008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8534520" y="5188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6095880" y="57564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1"/>
              <p:cNvSpPr/>
              <p:nvPr/>
            </p:nvSpPr>
            <p:spPr>
              <a:xfrm>
                <a:off x="8381880" y="41342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15"/>
            <p:cNvSpPr/>
            <p:nvPr/>
          </p:nvSpPr>
          <p:spPr>
            <a:xfrm>
              <a:off x="6660360" y="4186800"/>
              <a:ext cx="6264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7727040" y="487872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8480160" y="538128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8291880" y="443844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9"/>
            <p:cNvSpPr/>
            <p:nvPr/>
          </p:nvSpPr>
          <p:spPr>
            <a:xfrm>
              <a:off x="6472080" y="5884200"/>
              <a:ext cx="6264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7602840" y="4878720"/>
              <a:ext cx="2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2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 segments are formed by two intersecting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4920" y="2971800"/>
            <a:ext cx="647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chords intersect within a circle, then the product of the lengths of the parts of one chord is equal to the product of the lengths of the parts of the second ch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70102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8001000" y="4800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7057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6960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981080" y="5105520"/>
            <a:ext cx="3353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• b = c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• 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304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470-401F-48D3-8586-D70954145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Secants/Tangents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8600" y="1905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ior segments are formed by two secants, or a secant and a tan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609480" y="2895480"/>
            <a:ext cx="3429000" cy="2779920"/>
            <a:chOff x="609480" y="2895480"/>
            <a:chExt cx="3429000" cy="2779920"/>
          </a:xfrm>
        </p:grpSpPr>
        <p:sp>
          <p:nvSpPr>
            <p:cNvPr id="125" name="AutoShape 7"/>
            <p:cNvSpPr/>
            <p:nvPr/>
          </p:nvSpPr>
          <p:spPr>
            <a:xfrm>
              <a:off x="609480" y="2895480"/>
              <a:ext cx="342900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950760" y="3205080"/>
              <a:ext cx="2032200" cy="20322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950400" y="3220920"/>
              <a:ext cx="2697480" cy="943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812960" y="3220920"/>
              <a:ext cx="1835280" cy="1982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2900520" y="3968640"/>
              <a:ext cx="8244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070080" y="3919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1925640" y="417996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2673360" y="351324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2728800" y="32702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616200" y="3187800"/>
              <a:ext cx="8100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3776400" y="3057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919080" y="413064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826920" y="3919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1779480" y="517212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2"/>
            <p:cNvSpPr/>
            <p:nvPr/>
          </p:nvSpPr>
          <p:spPr>
            <a:xfrm>
              <a:off x="1801440" y="5253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4"/>
          <p:cNvGrpSpPr/>
          <p:nvPr/>
        </p:nvGrpSpPr>
        <p:grpSpPr>
          <a:xfrm>
            <a:off x="4572000" y="2819520"/>
            <a:ext cx="4191120" cy="2584440"/>
            <a:chOff x="4572000" y="2819520"/>
            <a:chExt cx="4191120" cy="2584440"/>
          </a:xfrm>
        </p:grpSpPr>
        <p:sp>
          <p:nvSpPr>
            <p:cNvPr id="141" name="AutoShape 23"/>
            <p:cNvSpPr/>
            <p:nvPr/>
          </p:nvSpPr>
          <p:spPr>
            <a:xfrm>
              <a:off x="4572000" y="2819520"/>
              <a:ext cx="419112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4746600" y="3116160"/>
              <a:ext cx="2112840" cy="21132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 flipH="1">
              <a:off x="4885920" y="4513320"/>
              <a:ext cx="3475080" cy="1569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335640" y="3273480"/>
              <a:ext cx="2025720" cy="1239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8"/>
            <p:cNvSpPr/>
            <p:nvPr/>
          </p:nvSpPr>
          <p:spPr>
            <a:xfrm>
              <a:off x="6719760" y="454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6807240" y="46530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0"/>
            <p:cNvSpPr/>
            <p:nvPr/>
          </p:nvSpPr>
          <p:spPr>
            <a:xfrm>
              <a:off x="5759280" y="412920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1"/>
            <p:cNvSpPr/>
            <p:nvPr/>
          </p:nvSpPr>
          <p:spPr>
            <a:xfrm>
              <a:off x="6300720" y="323856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6335640" y="2994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3"/>
            <p:cNvSpPr/>
            <p:nvPr/>
          </p:nvSpPr>
          <p:spPr>
            <a:xfrm>
              <a:off x="4851360" y="463536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4"/>
            <p:cNvSpPr/>
            <p:nvPr/>
          </p:nvSpPr>
          <p:spPr>
            <a:xfrm>
              <a:off x="4816440" y="47228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8326440" y="447840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>
              <a:off x="8483400" y="43736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7"/>
          <p:cNvSpPr/>
          <p:nvPr/>
        </p:nvSpPr>
        <p:spPr>
          <a:xfrm>
            <a:off x="9907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o Se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48769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cant and a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8312-4931-41A8-A853-E39E93CF7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Secants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AutoShape 13"/>
          <p:cNvSpPr/>
          <p:nvPr/>
        </p:nvSpPr>
        <p:spPr>
          <a:xfrm rot="13375200">
            <a:off x="2742840" y="3809880"/>
            <a:ext cx="388800" cy="2479680"/>
          </a:xfrm>
          <a:custGeom>
            <a:avLst/>
            <a:gdLst>
              <a:gd name="textAreaLeft" fmla="*/ 248400 w 388800"/>
              <a:gd name="textAreaRight" fmla="*/ 389160 w 388800"/>
              <a:gd name="textAreaTop" fmla="*/ 64440 h 2479680"/>
              <a:gd name="textAreaBottom" fmla="*/ 2415240 h 24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 rot="4152000">
            <a:off x="1730880" y="2764440"/>
            <a:ext cx="389160" cy="2479680"/>
          </a:xfrm>
          <a:custGeom>
            <a:avLst/>
            <a:gdLst>
              <a:gd name="textAreaLeft" fmla="*/ 248760 w 389160"/>
              <a:gd name="textAreaRight" fmla="*/ 389520 w 389160"/>
              <a:gd name="textAreaTop" fmla="*/ 64440 h 2479680"/>
              <a:gd name="textAreaBottom" fmla="*/ 2415240 h 24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705"/>
                </a:lnTo>
                <a:cubicBezTo>
                  <a:pt x="10800" y="6605"/>
                  <a:pt x="5400" y="7505"/>
                  <a:pt x="0" y="7505"/>
                </a:cubicBezTo>
                <a:cubicBezTo>
                  <a:pt x="5400" y="7505"/>
                  <a:pt x="10800" y="8405"/>
                  <a:pt x="10800" y="93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419720" y="4038480"/>
            <a:ext cx="2819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• e = c • f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80880" y="18288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ecant segments are drawn to a circle from an external point, then the products of the lengths of the secant and their exterior parts ar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5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352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E96-EBBE-45E5-85DD-966FDA30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257800" y="1981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 rot="17884800">
            <a:off x="2515680" y="457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9"/>
          <p:cNvGraphicFramePr/>
          <p:nvPr/>
        </p:nvGraphicFramePr>
        <p:xfrm>
          <a:off x="533520" y="1967040"/>
          <a:ext cx="777240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67040"/>
                    <a:ext cx="7772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23"/>
          <p:cNvGrpSpPr/>
          <p:nvPr/>
        </p:nvGrpSpPr>
        <p:grpSpPr>
          <a:xfrm>
            <a:off x="457200" y="2819520"/>
            <a:ext cx="4038480" cy="3273480"/>
            <a:chOff x="457200" y="2819520"/>
            <a:chExt cx="4038480" cy="3273480"/>
          </a:xfrm>
        </p:grpSpPr>
        <p:sp>
          <p:nvSpPr>
            <p:cNvPr id="172" name="AutoShape 22"/>
            <p:cNvSpPr/>
            <p:nvPr/>
          </p:nvSpPr>
          <p:spPr>
            <a:xfrm>
              <a:off x="457200" y="2819520"/>
              <a:ext cx="4038480" cy="32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58960" y="3182760"/>
              <a:ext cx="2392200" cy="23925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 flipH="1">
              <a:off x="858960" y="3201840"/>
              <a:ext cx="3178080" cy="1111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H="1">
              <a:off x="1872720" y="3201840"/>
              <a:ext cx="2163960" cy="2335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156120" y="4083120"/>
              <a:ext cx="95040" cy="95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3365280" y="40258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2008080" y="4332240"/>
              <a:ext cx="95400" cy="95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2887560" y="3546360"/>
              <a:ext cx="96840" cy="96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2963520" y="3259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3998880" y="3164040"/>
              <a:ext cx="95400" cy="95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4189320" y="30114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820800" y="4273560"/>
              <a:ext cx="95040" cy="96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5"/>
            <p:cNvSpPr/>
            <p:nvPr/>
          </p:nvSpPr>
          <p:spPr>
            <a:xfrm>
              <a:off x="725040" y="40258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1835280" y="5499000"/>
              <a:ext cx="95040" cy="95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1870200" y="55944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38"/>
          <p:cNvSpPr/>
          <p:nvPr/>
        </p:nvSpPr>
        <p:spPr>
          <a:xfrm rot="20637000">
            <a:off x="1524960" y="3504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 rot="19236000">
            <a:off x="3429720" y="3504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 rot="20667600">
            <a:off x="3048120" y="289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4876920" y="2743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C = 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5029200" y="3352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 =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+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5257800" y="4038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 = 4 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5410080" y="4648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638680" y="5257800"/>
            <a:ext cx="1752840" cy="52056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18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C96-CCD0-469C-8DAC-61B6F33D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ecant and Tangent Theorem:</a:t>
            </a:r>
            <a:endParaRPr b="0" lang="en-US" sz="3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AutoShape 5"/>
          <p:cNvSpPr/>
          <p:nvPr/>
        </p:nvSpPr>
        <p:spPr>
          <a:xfrm rot="16070400">
            <a:off x="2624760" y="3996360"/>
            <a:ext cx="388800" cy="3352680"/>
          </a:xfrm>
          <a:custGeom>
            <a:avLst/>
            <a:gdLst>
              <a:gd name="textAreaLeft" fmla="*/ 248400 w 388800"/>
              <a:gd name="textAreaRight" fmla="*/ 389160 w 3888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581280" y="4191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352680" y="4800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29200" y="3962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b •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5909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0492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quare of the length of the tangent equals the product of the length of the secant and its exterior se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762120" y="3505320"/>
            <a:ext cx="4190760" cy="2584440"/>
            <a:chOff x="762120" y="3505320"/>
            <a:chExt cx="4190760" cy="2584440"/>
          </a:xfrm>
        </p:grpSpPr>
        <p:sp>
          <p:nvSpPr>
            <p:cNvPr id="206" name="AutoShape 12"/>
            <p:cNvSpPr/>
            <p:nvPr/>
          </p:nvSpPr>
          <p:spPr>
            <a:xfrm>
              <a:off x="762120" y="3505320"/>
              <a:ext cx="419076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936360" y="3802320"/>
              <a:ext cx="2112480" cy="211284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1076040" y="5199120"/>
              <a:ext cx="3474720" cy="157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>
              <a:off x="2525400" y="3959280"/>
              <a:ext cx="2025360" cy="1239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2909520" y="523404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"/>
            <p:cNvSpPr/>
            <p:nvPr/>
          </p:nvSpPr>
          <p:spPr>
            <a:xfrm>
              <a:off x="2927160" y="53388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9"/>
            <p:cNvSpPr/>
            <p:nvPr/>
          </p:nvSpPr>
          <p:spPr>
            <a:xfrm>
              <a:off x="1949040" y="48150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2490480" y="392436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1"/>
            <p:cNvSpPr/>
            <p:nvPr/>
          </p:nvSpPr>
          <p:spPr>
            <a:xfrm>
              <a:off x="2455560" y="36799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1041120" y="5321520"/>
              <a:ext cx="871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3"/>
            <p:cNvSpPr/>
            <p:nvPr/>
          </p:nvSpPr>
          <p:spPr>
            <a:xfrm>
              <a:off x="936360" y="54086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4516200" y="51642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4620960" y="50594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902-199B-43EA-B03A-6950F5B0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22" name="Object 27"/>
          <p:cNvGraphicFramePr/>
          <p:nvPr/>
        </p:nvGraphicFramePr>
        <p:xfrm>
          <a:off x="304920" y="1905120"/>
          <a:ext cx="853416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5341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5"/>
          <p:cNvSpPr/>
          <p:nvPr/>
        </p:nvSpPr>
        <p:spPr>
          <a:xfrm>
            <a:off x="32767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4"/>
          <p:cNvGrpSpPr/>
          <p:nvPr/>
        </p:nvGrpSpPr>
        <p:grpSpPr>
          <a:xfrm>
            <a:off x="457200" y="3429000"/>
            <a:ext cx="4060800" cy="2387520"/>
            <a:chOff x="457200" y="3429000"/>
            <a:chExt cx="4060800" cy="2387520"/>
          </a:xfrm>
        </p:grpSpPr>
        <p:sp>
          <p:nvSpPr>
            <p:cNvPr id="226" name="AutoShape 13"/>
            <p:cNvSpPr/>
            <p:nvPr/>
          </p:nvSpPr>
          <p:spPr>
            <a:xfrm>
              <a:off x="457200" y="3429000"/>
              <a:ext cx="4060800" cy="23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5"/>
            <p:cNvSpPr/>
            <p:nvPr/>
          </p:nvSpPr>
          <p:spPr>
            <a:xfrm>
              <a:off x="626760" y="3703680"/>
              <a:ext cx="2046600" cy="195084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 flipH="1">
              <a:off x="761400" y="4994280"/>
              <a:ext cx="3367080" cy="1443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2165040" y="3848040"/>
              <a:ext cx="1963800" cy="11462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8"/>
            <p:cNvSpPr/>
            <p:nvPr/>
          </p:nvSpPr>
          <p:spPr>
            <a:xfrm>
              <a:off x="2538360" y="502596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"/>
            <p:cNvSpPr/>
            <p:nvPr/>
          </p:nvSpPr>
          <p:spPr>
            <a:xfrm>
              <a:off x="2555640" y="5122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0"/>
            <p:cNvSpPr/>
            <p:nvPr/>
          </p:nvSpPr>
          <p:spPr>
            <a:xfrm>
              <a:off x="1608120" y="463860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"/>
            <p:cNvSpPr/>
            <p:nvPr/>
          </p:nvSpPr>
          <p:spPr>
            <a:xfrm>
              <a:off x="2131920" y="3816360"/>
              <a:ext cx="8424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2098440" y="3591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3"/>
            <p:cNvSpPr/>
            <p:nvPr/>
          </p:nvSpPr>
          <p:spPr>
            <a:xfrm>
              <a:off x="728640" y="510696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626760" y="518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5"/>
            <p:cNvSpPr/>
            <p:nvPr/>
          </p:nvSpPr>
          <p:spPr>
            <a:xfrm>
              <a:off x="4095720" y="496080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4195440" y="4863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29718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205740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2"/>
          <p:cNvSpPr/>
          <p:nvPr/>
        </p:nvSpPr>
        <p:spPr>
          <a:xfrm flipH="1" rot="16034400">
            <a:off x="2151720" y="3786120"/>
            <a:ext cx="718920" cy="3202200"/>
          </a:xfrm>
          <a:custGeom>
            <a:avLst/>
            <a:gdLst>
              <a:gd name="textAreaLeft" fmla="*/ 0 w 718920"/>
              <a:gd name="textAreaRight" fmla="*/ 259560 w 718920"/>
              <a:gd name="textAreaTop" fmla="*/ 83520 h 3202200"/>
              <a:gd name="textAreaBottom" fmla="*/ 3118680 h 320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3"/>
          <p:cNvGraphicFramePr/>
          <p:nvPr/>
        </p:nvGraphicFramePr>
        <p:xfrm>
          <a:off x="4724280" y="3200400"/>
          <a:ext cx="377208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7720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6:18:57Z</dcterms:created>
  <dc:creator>Administrator</dc:creator>
  <dc:description/>
  <dc:language>en-US</dc:language>
  <cp:lastModifiedBy>chmorgan</cp:lastModifiedBy>
  <dcterms:modified xsi:type="dcterms:W3CDTF">2013-04-09T19:20:38Z</dcterms:modified>
  <cp:revision>23</cp:revision>
  <dc:subject/>
  <dc:title>8-6 Segments in Circles</dc:title>
</cp:coreProperties>
</file>